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2463-3BB5-4D9D-82ED-E1DD02A689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утомлени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В.А Ковалё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DB5D-68B0-48DF-9FC4-E8C315E2E46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ссаж активных точек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ж точек на висках на ли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уголка глаза снаружи до козелка на ушной ракови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ижения пальц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угообразны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исующими букву “с”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мя - 15 с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Затем выполня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тирание переносиц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близко к уголкам глаз, по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глаз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линии крыльев но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дбровные ду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низу ближе к перенос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EBDA-BF6A-4C1E-B10B-71653C6094F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енажер “Флажок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цвет использовать и когда? В понедельник используетс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рас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еле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, как и в среду. Затем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уб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фиолетов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38F4-E092-4CB3-A87A-B32C9DE70B4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ражнения для тренажёра «Флаж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Восьмерк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яется мед­ленно, рисуется восьмерка, лежащая на б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Ромбик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Пил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03CE-C8C5-420C-B441-CE600405CC3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ажёр «Видеоазиму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несколько вариантов тренажер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большой, для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тол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веши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с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могает  снять зрительное уто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124F-840D-4980-AC1C-D3B7C13C4E0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а упра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бежать взором зелены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бежать взором диагональ из угла в угол. Поочередно кажд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ертикаль и горизонталь в той же дозиров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E8D2-3EF6-4ACB-8DC7-F5FACC6DBAC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«Чт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AE1A-B9B0-46EB-9B81-6DD6C02334A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класс «Окружающий мир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на тему «Если хочешь быть здоров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BB71-24C6-4410-9088-72A34B61368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10E-1D3D-4AF7-B123-9ACA2A04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539-70AA-4EB9-B399-6B74DAAF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D13-4D2C-4439-AC5F-A2DD20CC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016-979F-490F-A2F8-F65BF807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07A4-E490-4E20-ABB5-D30BE018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C7C4-E152-4C23-8E17-6CA4D741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0320-A13E-4EE1-8974-8B7599E6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008F-C905-4072-B9D1-28BF330D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99C1-6C84-4116-820C-F7D5F3A2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FB9C-AF77-4BE2-859A-597E0054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E5DF-A09C-4162-A33C-24C78844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6B8-EE5B-488A-9DEA-E6F157DC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8FAB-3BF6-4567-B7EF-C50FBB58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535C-0BB7-40B3-A5FA-31FD1057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0E5A-C752-4ECF-924A-D6AB4616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092D-38B4-4F35-8C11-8FE4D381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2C4A-1B76-4C3C-B8BA-78E82F2D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4EA-13EC-41D7-964D-803EBA59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CF3-59AC-4157-B6A8-42C35B2F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B66-C793-4A9F-99EC-8FE24A40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039-B706-4110-8077-1DDEB89C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631-65BD-4FB4-B971-FDB61DD7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63D-BC87-4EAE-B7A7-3F312367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660-588D-45A3-AED3-85EB5B67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48F4-6030-4B3C-8263-7B0FE41A78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EA22-CD11-4DB0-BD05-5B62578C31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631280" cy="2979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рофилактика утомления гла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тодика В.А Ковалё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Массаж активных точек ли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ссаж точек на висках на лин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уголка глаза снаружи до козелка на ушной ракови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вижения пальц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огут быт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ругообразны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рисующими букву “с”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ремя - 15 с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Затем выполняются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тирание переносиц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остаточно близко к уголкам глаз, потом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 глаз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 линии крыльев носа 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дбровные дуг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низу ближе к переносиц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Тренажер “Флажок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й цвет использовать и когда? В понедельник использу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расный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елен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цвет, как и в среду. Затем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голуб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фиолетов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Восьмерка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олняется мед­ленно, рисуется восьмерка, лежащая на б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Ромбик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Пила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пражнения для тренажёра «Флажок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енажёр «Видеоазимут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лжно быть несколько вариантов тренажера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ди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небольшой, для работы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стол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руг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вешивается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доск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могает  снять зрительное утомлени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видеоазимут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хема упраж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82803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Оббежать взором зеленый прямоугольни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Оббежать взором диагональ из угла в угол. Поочередно кажд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ертикаль и горизонталь в той же дозировк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 класс «Чтение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класс «Окружающий мир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рок на тему «Если хочешь быть здоров…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9:02:16Z</dcterms:created>
  <dc:creator>Admin</dc:creator>
  <dc:description/>
  <dc:language>en-US</dc:language>
  <cp:lastModifiedBy>LEGION</cp:lastModifiedBy>
  <dcterms:modified xsi:type="dcterms:W3CDTF">2015-02-13T11:15:19Z</dcterms:modified>
  <cp:revision>7</cp:revision>
  <dc:subject/>
  <dc:title>Профилактика зрительного утомления и нарушений зрения у учащихся массовой школы  </dc:title>
</cp:coreProperties>
</file>